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CD23-8DBC-440F-8855-BC05F55D0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0EDD-D700-4C3A-AC6B-39DB6638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F045-FB1C-4F1B-A3A9-AF2FCBCD4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E0CE-F994-459F-83AD-FFABE3817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AD3A-E2E7-4454-B6AA-96ECEA59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3D05-07EC-4BC6-9EC2-AA479801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4140-2299-4A24-9E46-75718692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5AA1-C328-4A10-8DD7-7D4B7F10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B1F1-CAA2-4684-A1C6-495963C3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961F-E893-4E05-93AE-789CB735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CE54-CB04-4923-8A19-4BD35753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8F73-C443-45D4-8D58-A5CB719D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1578-7FFE-4AF4-827B-C02C4EED2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52388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WDENBEATH                             COWDENBEATH                               COWDWBEATH                             COWDENBEATH                           COWDENBEATH                         COWDENBEATH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7924680" y="3200400"/>
            <a:ext cx="167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1"/>
          <p:cNvSpPr/>
          <p:nvPr/>
        </p:nvSpPr>
        <p:spPr>
          <a:xfrm>
            <a:off x="0" y="4952880"/>
            <a:ext cx="792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2"/>
          <p:cNvSpPr/>
          <p:nvPr/>
        </p:nvSpPr>
        <p:spPr>
          <a:xfrm>
            <a:off x="0" y="659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NFERMLINE  NORTHERN                          NORTHERN                                          NORTHERN                                       NORTHERN                             NORTHERN  TOURISTS        DUNFERMLINE  WEST  END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7"/>
          <p:cNvSpPr/>
          <p:nvPr/>
        </p:nvSpPr>
        <p:spPr>
          <a:xfrm>
            <a:off x="8077320" y="32004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4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WDENBEATH  M.W.               COWDENBEATH  M.W.  50TH              CROSSGATES  50TH                          DALGETY  BAY  PUBLIC                  DOVECOT  PARK             DOVECOT  PARK   MILLENNIUM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3"/>
          <p:cNvSpPr/>
          <p:nvPr/>
        </p:nvSpPr>
        <p:spPr>
          <a:xfrm>
            <a:off x="0" y="5130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DUNFERMLINE                                 DUNFERMLINE                        DUNFERMLINE  150TH    DUNFERMLINE  BUILDING  SOCIETY   DUNFERMLINE  DIST.  RAILWAYMEN     RAILWAYM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64"/>
          <p:cNvSpPr/>
          <p:nvPr/>
        </p:nvSpPr>
        <p:spPr>
          <a:xfrm>
            <a:off x="7848720" y="66214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6"/>
          <p:cNvSpPr/>
          <p:nvPr/>
        </p:nvSpPr>
        <p:spPr>
          <a:xfrm>
            <a:off x="4343400" y="-79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8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35" descr="Cowdenbeath 3"/>
          <p:cNvPicPr/>
          <p:nvPr/>
        </p:nvPicPr>
        <p:blipFill>
          <a:blip r:embed="rId1"/>
          <a:stretch/>
        </p:blipFill>
        <p:spPr>
          <a:xfrm>
            <a:off x="5168880" y="404640"/>
            <a:ext cx="933480" cy="1121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6" descr="Cowdenbeath 4"/>
          <p:cNvPicPr/>
          <p:nvPr/>
        </p:nvPicPr>
        <p:blipFill>
          <a:blip r:embed="rId2"/>
          <a:stretch/>
        </p:blipFill>
        <p:spPr>
          <a:xfrm>
            <a:off x="6608880" y="260280"/>
            <a:ext cx="1042920" cy="1266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7" descr="Cowdenbeath 100th"/>
          <p:cNvPicPr/>
          <p:nvPr/>
        </p:nvPicPr>
        <p:blipFill>
          <a:blip r:embed="rId3"/>
          <a:stretch/>
        </p:blipFill>
        <p:spPr>
          <a:xfrm>
            <a:off x="8121600" y="333360"/>
            <a:ext cx="1189080" cy="123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8" descr="Cowdenbeath MW 1"/>
          <p:cNvPicPr/>
          <p:nvPr/>
        </p:nvPicPr>
        <p:blipFill>
          <a:blip r:embed="rId4"/>
          <a:stretch/>
        </p:blipFill>
        <p:spPr>
          <a:xfrm>
            <a:off x="560520" y="2492280"/>
            <a:ext cx="950760" cy="790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9" descr="Cowdenbeath MW 50th"/>
          <p:cNvPicPr/>
          <p:nvPr/>
        </p:nvPicPr>
        <p:blipFill>
          <a:blip r:embed="rId5"/>
          <a:stretch/>
        </p:blipFill>
        <p:spPr>
          <a:xfrm>
            <a:off x="2073240" y="2060640"/>
            <a:ext cx="1189080" cy="1216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0" descr="Crossgates 50th"/>
          <p:cNvPicPr/>
          <p:nvPr/>
        </p:nvPicPr>
        <p:blipFill>
          <a:blip r:embed="rId6"/>
          <a:stretch/>
        </p:blipFill>
        <p:spPr>
          <a:xfrm>
            <a:off x="3728880" y="2276640"/>
            <a:ext cx="933480" cy="1028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1" descr="Dalgety Bay"/>
          <p:cNvPicPr/>
          <p:nvPr/>
        </p:nvPicPr>
        <p:blipFill>
          <a:blip r:embed="rId7"/>
          <a:stretch/>
        </p:blipFill>
        <p:spPr>
          <a:xfrm>
            <a:off x="5240160" y="2276640"/>
            <a:ext cx="1043280" cy="1060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2" descr="Dovecot Park"/>
          <p:cNvPicPr/>
          <p:nvPr/>
        </p:nvPicPr>
        <p:blipFill>
          <a:blip r:embed="rId8"/>
          <a:stretch/>
        </p:blipFill>
        <p:spPr>
          <a:xfrm>
            <a:off x="6753240" y="2349360"/>
            <a:ext cx="1023840" cy="973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3" descr="Dovecot Park Millennium"/>
          <p:cNvPicPr/>
          <p:nvPr/>
        </p:nvPicPr>
        <p:blipFill>
          <a:blip r:embed="rId9"/>
          <a:stretch/>
        </p:blipFill>
        <p:spPr>
          <a:xfrm>
            <a:off x="8193240" y="2133720"/>
            <a:ext cx="1096920" cy="1157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4" descr="Dunfermline 1"/>
          <p:cNvPicPr/>
          <p:nvPr/>
        </p:nvPicPr>
        <p:blipFill>
          <a:blip r:embed="rId10"/>
          <a:stretch/>
        </p:blipFill>
        <p:spPr>
          <a:xfrm>
            <a:off x="488880" y="3573360"/>
            <a:ext cx="1189080" cy="157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5" descr="Dunfermline 2"/>
          <p:cNvPicPr/>
          <p:nvPr/>
        </p:nvPicPr>
        <p:blipFill>
          <a:blip r:embed="rId11"/>
          <a:stretch/>
        </p:blipFill>
        <p:spPr>
          <a:xfrm>
            <a:off x="2000160" y="3500280"/>
            <a:ext cx="1206720" cy="1559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6" descr="Dunfermline 150th"/>
          <p:cNvPicPr/>
          <p:nvPr/>
        </p:nvPicPr>
        <p:blipFill>
          <a:blip r:embed="rId12"/>
          <a:stretch/>
        </p:blipFill>
        <p:spPr>
          <a:xfrm>
            <a:off x="3584520" y="3645000"/>
            <a:ext cx="1060560" cy="1485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7" descr="Dunfermline Building"/>
          <p:cNvPicPr/>
          <p:nvPr/>
        </p:nvPicPr>
        <p:blipFill>
          <a:blip r:embed="rId13"/>
          <a:stretch/>
        </p:blipFill>
        <p:spPr>
          <a:xfrm>
            <a:off x="5168880" y="4005360"/>
            <a:ext cx="115272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8" descr="Dunfermline Dist"/>
          <p:cNvPicPr/>
          <p:nvPr/>
        </p:nvPicPr>
        <p:blipFill>
          <a:blip r:embed="rId14"/>
          <a:stretch/>
        </p:blipFill>
        <p:spPr>
          <a:xfrm>
            <a:off x="6753240" y="4292640"/>
            <a:ext cx="1170000" cy="826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9" descr="Dunfermline Dist"/>
          <p:cNvPicPr/>
          <p:nvPr/>
        </p:nvPicPr>
        <p:blipFill>
          <a:blip r:embed="rId15"/>
          <a:stretch/>
        </p:blipFill>
        <p:spPr>
          <a:xfrm>
            <a:off x="8265960" y="3933720"/>
            <a:ext cx="1097280" cy="1193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0" descr="Dunfermline Northern 1"/>
          <p:cNvPicPr/>
          <p:nvPr/>
        </p:nvPicPr>
        <p:blipFill>
          <a:blip r:embed="rId16"/>
          <a:stretch/>
        </p:blipFill>
        <p:spPr>
          <a:xfrm>
            <a:off x="488880" y="5516640"/>
            <a:ext cx="1133640" cy="1133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1" descr="Dunfermline Northern 2"/>
          <p:cNvPicPr/>
          <p:nvPr/>
        </p:nvPicPr>
        <p:blipFill>
          <a:blip r:embed="rId17"/>
          <a:stretch/>
        </p:blipFill>
        <p:spPr>
          <a:xfrm>
            <a:off x="2144880" y="5373720"/>
            <a:ext cx="969840" cy="1266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2" descr="Dunfermline Northern 3"/>
          <p:cNvPicPr/>
          <p:nvPr/>
        </p:nvPicPr>
        <p:blipFill>
          <a:blip r:embed="rId18"/>
          <a:stretch/>
        </p:blipFill>
        <p:spPr>
          <a:xfrm>
            <a:off x="3728880" y="5300640"/>
            <a:ext cx="1006560" cy="1325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3" descr="Dunfermline Northern 4"/>
          <p:cNvPicPr/>
          <p:nvPr/>
        </p:nvPicPr>
        <p:blipFill>
          <a:blip r:embed="rId19"/>
          <a:stretch/>
        </p:blipFill>
        <p:spPr>
          <a:xfrm>
            <a:off x="5240160" y="5445000"/>
            <a:ext cx="1060560" cy="1133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4" descr="Dunfermline Northern Tourists"/>
          <p:cNvPicPr/>
          <p:nvPr/>
        </p:nvPicPr>
        <p:blipFill>
          <a:blip r:embed="rId20"/>
          <a:stretch/>
        </p:blipFill>
        <p:spPr>
          <a:xfrm>
            <a:off x="6681960" y="5589720"/>
            <a:ext cx="1261800" cy="1023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8" descr="Cowdenbeath 1"/>
          <p:cNvPicPr/>
          <p:nvPr/>
        </p:nvPicPr>
        <p:blipFill>
          <a:blip r:embed="rId21"/>
          <a:stretch/>
        </p:blipFill>
        <p:spPr>
          <a:xfrm>
            <a:off x="560520" y="404640"/>
            <a:ext cx="1096920" cy="1106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9" descr="Cowdenbeath 2"/>
          <p:cNvPicPr/>
          <p:nvPr/>
        </p:nvPicPr>
        <p:blipFill>
          <a:blip r:embed="rId22"/>
          <a:stretch/>
        </p:blipFill>
        <p:spPr>
          <a:xfrm>
            <a:off x="2144880" y="476280"/>
            <a:ext cx="914400" cy="1069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0" descr="Cowdenbeath 5"/>
          <p:cNvPicPr/>
          <p:nvPr/>
        </p:nvPicPr>
        <p:blipFill>
          <a:blip r:embed="rId23"/>
          <a:stretch/>
        </p:blipFill>
        <p:spPr>
          <a:xfrm>
            <a:off x="3657600" y="333360"/>
            <a:ext cx="1046160" cy="1200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20" descr="Dunfermline West End  50th"/>
          <p:cNvPicPr/>
          <p:nvPr/>
        </p:nvPicPr>
        <p:blipFill>
          <a:blip r:embed="rId24"/>
          <a:stretch/>
        </p:blipFill>
        <p:spPr>
          <a:xfrm>
            <a:off x="8310600" y="5286240"/>
            <a:ext cx="106056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3T19:04:45Z</dcterms:created>
  <dc:creator>JOHN YOUNG</dc:creator>
  <dc:description/>
  <dc:language>en-US</dc:language>
  <cp:lastModifiedBy>John</cp:lastModifiedBy>
  <cp:lastPrinted>2000-08-08T17:59:03Z</cp:lastPrinted>
  <dcterms:modified xsi:type="dcterms:W3CDTF">2008-08-06T15:27:03Z</dcterms:modified>
  <cp:revision>39</cp:revision>
  <dc:subject/>
  <dc:title>No Slide Title</dc:title>
</cp:coreProperties>
</file>